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0DE-38F4-4DD0-9852-7C90A10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EDA-858C-4A18-BA69-79AB7DB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E7E84-7FAA-4A3C-A76B-D4347A9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9B000-C6B7-450A-A7A2-D350D57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B4D10-007B-4A9F-9FEC-2DBACDBD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C29CA-64C8-4EE6-9101-EB43F83A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C09C0-8CD2-4267-BABA-9306E63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688FF-0087-4C5E-BBE3-C962A96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B786C-D002-4F49-B26B-33BE029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A283-8F68-4DDA-95D9-24246B0B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0CCC-86AB-4824-9C80-4624C42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27057-9881-4722-818C-438125C9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AB7-EFB7-4D9A-B481-16F867DB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CF311-F9AB-4B9B-B0F2-D30227B7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5CB49-EBC4-4A4E-A4F1-A55944B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2DDE0-4D34-43F7-9B9C-D45097EF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7AE11-34C0-4B32-80E3-11783B40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A25EF-5378-424C-B70E-4EAD72A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B5407-84CD-4B60-AD08-213AA31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C3C32-E80A-4465-8518-32544B2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9351-1A63-46C3-ABA4-457F9D01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EE0EF-6D0C-453E-8B61-DE6FB1F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C75E4-8B39-41BD-870F-C7F548B2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8F4-2B10-4A38-B293-55C6264A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27C58-5089-472B-8B1F-30CC9415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635EA-49A2-419F-B213-D173DBC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DC45-B05F-4478-BF71-BEECDAAB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65B80-B7DB-4472-99AA-A707EE89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269A6-FDC9-4D1A-9F57-0675F06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C4D4-7BB1-433A-8CB3-D2BD98D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D87D-DE20-41A8-B2F0-3E5AB4D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97335-748F-4B52-8F06-93342FF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E60A-2AF7-4D12-B551-3F92AD6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B854-D025-4AC3-AE74-93380B2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503-5432-4784-BE8F-BE77C03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3E713-5E4F-40A5-951D-4B5ED8B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1AD7-AA5D-4234-98D9-01CBF8D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8A18-AD3F-43F7-A4AA-EBB77AB6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40402-7213-41B6-997F-2AAB1552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AFC8D-66AB-4FB0-A7E8-C1F8F1F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E1F93-2B84-4A6F-BFEF-066B97B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9327B-7798-4E4A-A9DF-996911CE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B36A5-EF8E-445F-8EE5-5C0AC54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AEC26-5819-4A6F-BACF-A741C104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25FAA-7084-481E-B40D-60E4072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B06-5E87-4C2E-97EC-7C6ADCF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11398-F3A9-4C35-BCC2-BF3FAF9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A5AD2-9EE4-4CC7-AF07-CE4D9BE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27A0-81D5-45F4-9CBF-6BA4371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CC52B-9CFD-4AEA-B75A-79DD0F52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055A5-4410-4DDF-99B9-F3CDFB7C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4A3E2-C506-457E-B946-C9FB1F0E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E970E-7ED7-4E7B-89C9-44386AE8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E9F14-CC8F-4F24-9E7A-00CA7BF7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50ED7-C31E-494F-82E1-F7A09C2A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15322-E29C-4345-BC59-D5BBE5C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643-924C-4F9C-B6B3-80A74959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E6E43-F388-439B-81DF-22E2EED2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337BE-ED1C-4641-BDFC-23F241D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66A4F-4704-44FE-8D30-F17606D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47C11-FBDF-413D-AD3A-3769138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CCA0C-C9FA-4B8F-9F24-828D6D0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38FB5-DDB8-4937-9B2D-CA2E2DEB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D6B42-5D48-47ED-B6BA-54110260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AAC55-F894-47CF-98F8-85E54656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508EA-B306-49EA-96BF-7C289FC8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5DB51-150A-4E25-9B5F-C695755A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397-AD9B-42FE-BB9A-809CF55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518DC-0EB9-423A-87BB-BA62B75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5F2F5-51CE-4355-BD61-BBEFA2AE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DD2F2-CAEF-4380-99F7-49FD2A5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05AE6-A301-472E-8471-0AD9449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179EA-C905-4F48-82F4-CB75BB8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56129-21BE-4FF9-916B-6379A65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7A16F-0305-4315-96AF-6B24A6E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F8C8A-E72A-46CB-A96B-163D912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E65F2-10C0-467F-8527-F5A9B38A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D7A63-E893-4F3C-859F-D6DAD26C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266A-1309-445A-AE5B-2F43045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C8507-2CF1-4FE8-99BE-C3891D00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8510C-6971-47A7-8C51-6434B9AB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14FF2-FCBD-4A58-B459-2B17E33F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AA02E-D298-4619-AA9A-C5E3266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51D9E-147C-47FB-A08A-18C61CEB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C1241-5351-4603-9B25-3ECD5B6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6FA07-7258-4682-ADCF-5FAD114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AA1F0-5F1A-48B4-92E5-5625565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F8901-419C-49B6-8E2E-956214E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6DA4D-3DFF-4373-95A9-B8AB52E5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7060-DBF2-42AB-AAA8-D34C43C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53410-CDFA-45E6-8F08-92D24D76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A1085-06E3-4AA3-BBF1-9F7C0F42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ECFE7-E1F9-4284-9398-28163D2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ADC88-8F33-4B13-9BBF-C2805C22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B2C1F-DE4D-4FF2-8766-47C8FD5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7F794-2270-4DC0-99F0-2121D75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70CAD-8450-4F45-856D-BC9E122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6D190-3C42-4A06-972C-B7D2028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277E0-7764-4426-9BAA-C0F7F13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09BBB-C750-49D9-AEB9-C3B8A15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B503-198E-4E0E-A073-63AE89D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2709C-7C59-4663-ABCF-D2811E8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55E4C-5190-41C8-A18E-AE38DABA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452D2-4F50-495D-B207-6FEE33FB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7ECF9-A166-46CA-A023-0F92245B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63FF9-248B-4A39-B822-12441DF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391ED-5E44-496B-9DB9-17517A72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ACA2F-37FD-4714-9E61-FB25A58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65F47-E42D-44DE-95C5-349E3706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AE08F-C210-4AD3-BB61-6EC8A07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C1B72-E6D2-48E4-BCB1-65817C1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A37-3455-4401-B5A8-769F0D85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B29F-EAB8-4DA8-B50C-69C2964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FD708-34D4-4195-B689-BF92F64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9C4FC-D6FD-4B45-AD08-D32CB4E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60C46-4C21-4F73-86FF-6007846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9FD12-F9BD-42DB-8F35-66701521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D5CFA-161B-41D4-9555-4AEF3A2D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D2179-14F7-4F3F-8AA5-53E00337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1ED70-1D62-4B89-9C4C-B088008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F8C91-1EE2-4C01-AF55-74CFD6E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45310-09D6-45FF-9211-26A7DD0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D3823-2394-4260-B7F4-3C293236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546-B721-4BE6-BEFB-3DBDA09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55C4E-8A67-41E5-B058-B4EEB0B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55837-090D-44BC-934B-5A30610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E106C-0A32-4640-BCDE-E536CEE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AA155-9E6A-42FE-BAF0-D606CA2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DE05E-D47D-4F52-B2A7-01B473C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4BAB3-6D22-4E25-B9E5-8C943CFB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AD6E8-B4F9-442E-ADCA-282398C3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F42A0-40BA-4D03-A0C4-BBA48A49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07DB3-0E34-4FEA-9A9C-3C7C6D7B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E51C6-8740-42EF-80CC-B8C3C2B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A7F2-130D-41BD-B3D1-896A7F0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F0C6C-103D-43CE-A23E-B070A791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4D59C-A5EB-406D-B524-D31E9BA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37C28-AAEE-4187-A36C-0A132163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3F53E-543B-43F1-AC82-A480F64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C6D37-06D8-40EF-9CF7-AB96664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33979-AEFB-4057-AF93-E815AEF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821C2-3DF8-4646-81E4-0A941BF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F547B-A6F8-4DA4-B493-5ACCAAA0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C1874-6D23-4265-91B8-A2CE4772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ED392-87B0-48B5-8CF0-4C41EEE6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623-7B26-45E8-A24E-6C400AD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6E287-B6FF-40B4-8603-3BF5EA21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A81B1-E2B8-45BE-8D1A-C8D6112B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CADB2-51C4-4828-BC72-87028D8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20CFC-2E86-4866-B012-FCD3749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87D2C-B258-436C-8A06-03F51D37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DBF5B-C8FF-4DFA-AB3B-CAA0CC9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62902-6F23-4E95-92E3-1D38AF1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0F399-C5F5-4474-B65D-0F0C2AB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BAA18-C01F-4733-9EBF-065BD2C5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6BAE2-4ADA-4187-B829-1D873B56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90A2-6FDC-4382-9C3F-FFDE1126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F19BE-3C04-4748-9980-A9B15B89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5553E-252A-43C9-8199-C24E9821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2F75E-A72C-4BC8-9027-84D7453E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BD275-884B-4B5A-8295-4201402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A2569-D78F-439D-B642-AE4264BA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42F84-1CC0-47B6-863B-FF74A08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D77F3-52AD-46C5-BC0D-962B28EC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7CEC3-59E7-4448-A3DD-9E6C366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85027E-6E51-4BD9-A485-B81E4BA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CEFDF-66FE-4D94-B870-B479259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766A-F413-493F-9759-540A374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F690D-C63B-4BAF-8D7A-132FB90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DA9DF-0FDF-4B67-BB22-15BD24FD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B0F69-D2E8-4619-9F7B-82A686B5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F9A1-CD65-4F5C-8BBC-9141F21C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1EF8-357A-42BB-A22C-F9526C1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2A31-EA30-4572-B9D2-107CBCA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5E0F-2303-4F30-84A4-0A19950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E39-5521-4330-92F5-05927C1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D2F3-AFB9-48FE-81A2-70CCC813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F33D-4296-4302-A024-A06F5AC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5BCD-51EE-4F22-A624-4868ED0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F8FF-5C39-4E0D-8609-90AD55F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BDF9-BBAD-44BF-969A-3937A04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B07A-D9EB-43E2-A29A-4CF8F219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C4E2-93E5-4CF2-8E68-DDA185D7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A722-49A3-4C9C-897D-563BE00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5D11-666E-44D0-8AD3-0B4C055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B399-0AA1-4484-889F-220E848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0A3-3B3D-466E-94A7-8C7B23E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5EE1-B66C-439E-8701-695DDBEC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F0AE-5C31-486E-9FBE-72013241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86E3-F57A-4CEC-92FD-623E1AE5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A4C2-F74D-40DA-839C-B117787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667A-4F95-44B4-AC85-6475872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546F-8F98-4129-92C4-FE3FE825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E684-247D-4D8C-A1ED-FF82F133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A7BE-0567-4473-9CB4-C4F4408B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8222-A1A0-481E-81B5-D6CB1F4A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2176-4E22-4152-A047-F624E43C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0B7-1774-49A9-8BA1-7B549F04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15F9-65DB-43B6-8B73-4942D35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44F10-4624-4DCC-BB46-A6574DF0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036D-9D0F-4154-9A22-331024B0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951E-C501-42E0-B95B-CBABC1D6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92EE-93F2-4A59-B387-405FE9F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BBB0-806E-43C1-AB0B-BF8E7DE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F20F-893A-4779-ABC4-7F28591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DE40-5E7B-4BA1-9C10-2A0AFE1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53C4-406B-40AC-A61E-C0F083F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FACD-12F5-46F2-8958-AD1B9EE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3D3-0CAF-4FFA-B1F2-851DAE07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E1ED-E153-4D5E-AACC-7CE724EF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71C8B-CD10-4025-8DCA-0DEDBA52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AA67-6476-4987-9C70-3EFE3B6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37F3-66A5-44B8-B635-1A2D8CF8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05F2-4F06-4DCC-B35F-B053EB45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CA2C-6D76-41CE-B371-1D02B2B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BB11-A5E6-447F-9C85-D38CF440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6DAF-9722-4215-8667-2CC0210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52F8-01EC-42CD-958F-C3A0063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8AEA-58F6-453E-9182-F633468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64A-B34D-428C-9A8B-E5EA7AA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40F35-F942-4A08-AB85-BF6024F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AE39-59D7-4932-A368-9D0BB89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C503-27B2-4C76-AE5B-FFCF02C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9E51-012B-48AC-8C38-72712A77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CF1F-8925-428D-B6AD-67B6EE1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591A-F673-464A-9A06-CC0D4343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ADA5-0BA6-4517-953C-E8CCE11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365E5-0D1F-4EF9-AB61-C92BF50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84F1D-EBF2-4DF3-9B8E-3323A126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DC30-30A5-49FA-B266-C32AEF4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349-68E6-42CA-91AD-32D60BD1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3AB0-C721-4BCF-A8F8-45828D3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2685-57BC-492D-8638-B69E81C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A95C-EC72-41C5-BC31-506051B4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22B9-6997-4D59-80E6-BB618984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928A-3B9D-4314-B8A6-A5B6719E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CAFDA-E198-46FF-9CCA-E0E8A4EA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7EB3F-9DDF-49DF-9E40-49D289E5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8C0A-E689-4A0B-9684-0BF4A28D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AFE1-2EDA-4B49-B421-EDBAC7E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BCD9A-B76F-4AEC-80B5-76F14C8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D63-E453-447B-9D8B-31E809F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190A-8CE4-40AA-9335-1E2F4FB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F336-3C85-4A29-A84E-F6C3812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E42B-E9B2-4A7C-AB3D-0E84B30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321CD-8652-43B3-BAFA-7CE58D18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2FB58-9643-4F45-B648-FC1FD529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8300-29BC-4728-B5CA-4BC80DAD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6356-E21A-4E6D-BD5B-30CB3E01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91A72-9DEA-48CF-A79A-20A86207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6E81-C1CC-43C6-A9E4-BEC1A4F9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00BE3-72A6-417E-9E01-D98F50A4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DDF2-E79D-43B4-893C-70DFECA69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0D1-B638-4F67-822E-5468127EF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4FF-2676-483B-96C5-1D2D0965B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7D6-AE07-4C99-B488-3F00B1C8D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25E1-FE22-4DBB-8B59-C3135E8B8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E1C-5EE6-4B80-B04F-3380BBD70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9BB-A638-4D6A-8B2A-848613B45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FF09-F975-4F66-AA17-69A026550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3AA-A181-40DC-ABBE-E5AC5A888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520A-5655-4873-86E8-1B76BF9AA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FFA-556D-40FE-AEEE-E8F8FCAE1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C3E-AB8D-428D-A77B-370FF9ADC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2CA-5DBA-4856-A5D2-054648633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DC9B-07E8-4D90-B492-6FEB7EC38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1E1-3946-44B4-BA91-91044AFF5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7A1-A3AE-49F5-A4B6-34F24DAEA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D9C8-C02B-479B-BDA6-550069BA9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4037-87EC-4861-97AA-76D8570AF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B25-7960-44D3-8A0F-C42E65029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62C-AC8A-4BEF-BCEF-F1D83D41A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8B8-F685-45EC-8737-BB002D9F2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E66A-6C5F-4676-A094-9F45475D4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791-BA48-44F1-9968-B3775FB6F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2AE-B2C3-4347-BFF4-9E1F0D7A3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94AD-3D90-479B-B331-B825657D5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B9E-C051-4980-B63F-F0F70E8C6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5D5-F60E-42CD-8326-845B70D0B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104-F1C1-48FF-B7CD-DFBA15AD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C28-2487-4592-80F2-86B96CBCE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476-F0C8-4433-86CE-4F21D1D449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134B-1FDE-4AFD-897B-C5CE11CB3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6B76-A8DE-498E-A79A-D56E2DF21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39E-EBEE-4FAC-901F-0CE130198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1C5-1115-4F62-A017-B71F6F728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3AA1-64D1-467D-9ECD-F76715F30C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7B5E-59C9-46F5-860D-2F616575A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BD1D-FCEB-4CFD-A318-134027DCB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67B-BAF9-4680-9D8D-B3B76D2DD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7676-1441-48A6-9E3E-4B05CD803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62F5-7B14-4E50-BCA1-2076A4799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30320" y="2639880"/>
            <a:ext cx="88833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19240" y="2104920"/>
            <a:ext cx="8705520" cy="2648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258920" y="42354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324000" y="1643040"/>
            <a:ext cx="8496000" cy="3571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37960" y="828720"/>
            <a:ext cx="8668080" cy="5200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258920" y="4595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681200" y="2643120"/>
            <a:ext cx="5781600" cy="1571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752400" y="1790640"/>
            <a:ext cx="7639200" cy="3276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749600" y="400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692360" y="34574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763640" y="2421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763640" y="29383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1763640" y="45226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5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